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1B1-164C-41B5-9CDA-6C06B736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0A3-898D-48A7-8066-1844C3D0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1ED-36E0-4C5D-B5F2-B3055528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D14-732B-4D61-BBA2-7B1D1DDA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6D8F-945F-412E-B063-57F197AC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50F6-88E4-474F-8FAF-9227057D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1BD9-3518-4534-B258-7610D0D3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21FF-7E99-4789-B01B-7CC4AB09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BF1D-C9CC-483C-A101-3751E650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6295-3BD7-4C93-BBD7-05D9C2DF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D813-2322-4A9B-9253-C972A1BA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79C-CE99-4BF9-9392-B7DFA37E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DBBE-1922-45D5-B05E-D5060092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476E-7D71-4B2F-986D-59B36A6E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BE4A-A47C-43F8-A8D7-E939A38E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8557-2D72-4DAF-8116-B4F96602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2321-0ABB-41D9-8160-0A37FA70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D6D-35DB-4F04-8F3A-0EF1C6DC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6CE-68A7-47DE-9830-59A2ED73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2D7-F3AB-4C43-8916-A731C1C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287-5D3F-4B06-A188-93CAD081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DE6-9481-4DC3-98CF-9B91E232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F21-076D-4365-9E44-CDA87C13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5F7-0B8A-4697-B9DB-EC4AA25F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88C6-6900-4DAA-938C-6BCBA8853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9331-EA79-4667-BA98-B692AEBCC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The Internet and Multimedia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2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How the Internet Developed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9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Internet developed from a research project started by the U.S. Defense Department in 1958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ree inventions that spread the use of the Internet were: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rsonal computer (early 1980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orld Wide Web (198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rowser (199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nnecting to the Interne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order to connect to the Internet you must hav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r computer to send and receive signals though telephone 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ernet service provider (ISP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all home 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wser softwar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need plug-in programs to retrieve some types of media applica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Navigating the Web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order to work with multimedia on the Internet, you must understand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rowser screen and its standard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L addresses and the information they cont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0" r="0" b="33964"/>
          <a:stretch/>
        </p:blipFill>
        <p:spPr>
          <a:xfrm>
            <a:off x="2666880" y="2438280"/>
            <a:ext cx="5181840" cy="3641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tandard Browser Eleme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828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1828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igation but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1828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 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1828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address or U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6019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de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60199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display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019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2133720"/>
            <a:ext cx="106668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133720"/>
            <a:ext cx="7596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133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324120" y="2133720"/>
            <a:ext cx="76212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120" y="5334120"/>
            <a:ext cx="228600" cy="761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952880" y="4800600"/>
            <a:ext cx="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257800" y="5638680"/>
            <a:ext cx="1752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010280" y="4419720"/>
            <a:ext cx="76320" cy="1676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RL Eleme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2590920"/>
          <a:ext cx="8153280" cy="248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590920"/>
                    <a:ext cx="8153280" cy="24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earching the Web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se search engines to find the right Web page: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search queries that include keywor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Boolean search strategies to narrow your sear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right search engine to conduct faster, more efficient sear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724280" y="20574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municating on the Interne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re are several ways to communicate on the Internet: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to a specific e-mail address. Can have attach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transfer protocol (FTP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used to transfer large files from one computer to an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 roo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Virtual” rooms where you can exchange typed messages with others who are in the roo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t messag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communicate in real time with one pers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2:36:40Z</dcterms:created>
  <dc:creator>LJ</dc:creator>
  <dc:description/>
  <dc:language>en-US</dc:language>
  <cp:lastModifiedBy>GLENCOE</cp:lastModifiedBy>
  <dcterms:modified xsi:type="dcterms:W3CDTF">2003-01-04T00:09:40Z</dcterms:modified>
  <cp:revision>23</cp:revision>
  <dc:subject/>
  <dc:title>Chapter 2 The Internet and Multimedia</dc:title>
</cp:coreProperties>
</file>